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F6E-23F0-4161-AC46-7F218161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E32-9856-456F-9346-40E8ADC2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DAB-D246-4A91-AEF0-9FDB7B9C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845-B779-42D6-B1E5-5EB1687F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392-1213-4FF8-89DE-70F871D4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5E0-7AA4-4398-B212-3DE0D46A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40D-B7C0-4E50-A5AE-4885F68B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EF0-46E6-4C32-B47D-FA968731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78E-CD3A-4120-99C7-45959089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5E8-84E1-41D0-8788-F9E40935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86B-3CBF-4550-959D-2961A91A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17C-7327-4AE7-AA48-0984189B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8828-A6BB-4326-BFD2-37425A4EC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phra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557360"/>
            <a:ext cx="82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314172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cc0099"/>
                </a:solidFill>
                <a:latin typeface="Arial"/>
              </a:rPr>
              <a:t>par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of a sent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NZ" sz="4000" spc="-1" strike="noStrike">
                <a:solidFill>
                  <a:srgbClr val="cc0099"/>
                </a:solidFill>
                <a:latin typeface="Arial"/>
              </a:rPr>
              <a:t>missing a verb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700280"/>
            <a:ext cx="60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 group of words joined together to make sen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157720"/>
            <a:ext cx="820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EG:</a:t>
            </a: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...on the 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1:05:34Z</dcterms:modified>
  <cp:revision>33</cp:revision>
  <dc:subject/>
  <dc:title>Simile</dc:title>
</cp:coreProperties>
</file>